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6F6-EC9B-4014-B69F-9373EB12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595-6A8B-476F-BE59-D27BB84E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06C-9334-4107-A437-C0B7B118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D8D-AE98-4792-AC5B-09700FB4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649C-1898-42DC-8924-8FA1F3C2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FA6C-A4DB-4F8E-8EB6-458EFAF9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A0F5-3F92-4FAA-986C-ECCA56F5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EB93-0C38-49FC-BBAD-8F221997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694D-BF8F-4EF2-BE47-7EE17D13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D887-5ECF-4556-88A1-512D28C2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5FC8-2CFF-481A-A8DD-3F67FD8F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EE9-686E-4713-B440-5952560E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7802-5384-42A3-B364-2134245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EDBA-39A9-4D11-8ABA-39DE14E8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28FC-6C9A-4013-B5B8-AC0D5D6E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A36E-5B5D-448F-A5F4-161F3166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F20E-1216-4A21-AB16-D49A17E8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37C-7D5F-4BE8-939F-53DE1439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9EE-C994-4814-8D09-C9B351A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7DF-8874-49C8-884E-D27B9541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08B-91AF-4CF3-AD48-59A4F49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02A-C0B6-4D61-8532-BAB71AAA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465-1315-4CEA-A941-0BF05B9B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6B5-D2AD-4DB7-8558-5D469ED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8701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8701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2924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2924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2193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7621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5526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C5D0-2F9F-4B3A-A519-16CAAA751C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1511280" y="6583320"/>
            <a:ext cx="692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UNIDO - Technology Foresight for Practitioners -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aining course, 6-10 October 2003, Prag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Text Box 15"/>
          <p:cNvSpPr/>
          <p:nvPr/>
        </p:nvSpPr>
        <p:spPr>
          <a:xfrm rot="16200000">
            <a:off x="-2262240" y="4057920"/>
            <a:ext cx="49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VS CVU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agu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42004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" name="Picture 16" descr=""/>
          <p:cNvPicPr/>
          <p:nvPr/>
        </p:nvPicPr>
        <p:blipFill>
          <a:blip r:embed="rId2"/>
          <a:stretch/>
        </p:blipFill>
        <p:spPr>
          <a:xfrm>
            <a:off x="8077320" y="947880"/>
            <a:ext cx="895320" cy="69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8BD2-B80E-490A-A094-041BCD1E5798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99"/>
                </a:solidFill>
                <a:latin typeface="Tahoma"/>
              </a:rPr>
              <a:t>Brainstorming - Creative Problem Solving Method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2004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8"/>
          <p:cNvSpPr/>
          <p:nvPr/>
        </p:nvSpPr>
        <p:spPr>
          <a:xfrm>
            <a:off x="2819520" y="2514600"/>
            <a:ext cx="2666880" cy="243828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99"/>
                </a:solidFill>
                <a:latin typeface="Tahoma"/>
              </a:rPr>
              <a:t>Organising a session?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276720" y="2209680"/>
            <a:ext cx="4190760" cy="459720"/>
          </a:xfrm>
          <a:prstGeom prst="rect">
            <a:avLst/>
          </a:prstGeom>
          <a:solidFill>
            <a:srgbClr val="ffcf01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. PREPARATIO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343400" y="4648320"/>
            <a:ext cx="4191120" cy="459720"/>
          </a:xfrm>
          <a:prstGeom prst="rect">
            <a:avLst/>
          </a:prstGeom>
          <a:solidFill>
            <a:srgbClr val="ffcf01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 CONDUCT THE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57200" y="3429000"/>
            <a:ext cx="4191120" cy="459720"/>
          </a:xfrm>
          <a:prstGeom prst="rect">
            <a:avLst/>
          </a:prstGeom>
          <a:solidFill>
            <a:srgbClr val="ffcf01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.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9"/>
          <p:cNvSpPr/>
          <p:nvPr/>
        </p:nvSpPr>
        <p:spPr>
          <a:xfrm flipH="1">
            <a:off x="5105160" y="43434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 flipV="1">
            <a:off x="2819160" y="39625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2133720" y="838080"/>
            <a:ext cx="4190760" cy="459720"/>
          </a:xfrm>
          <a:prstGeom prst="rect">
            <a:avLst/>
          </a:prstGeom>
          <a:solidFill>
            <a:srgbClr val="ffcf01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. PREPARATIO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3505320" y="3352680"/>
            <a:ext cx="1523880" cy="129564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905120" y="19810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pecify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do we really w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410080" y="327672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ect the right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p to 10 – 1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fferent po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752480" y="495288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ide when and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lace and time matter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„U“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yout of the 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0" y="3124080"/>
            <a:ext cx="3429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nvite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e sure the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v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685800" y="1905120"/>
            <a:ext cx="80773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pecify the objectiv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– make sure that everybody is happy with the central ques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ecide the roles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leader, recorder, pan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xplain the rule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or make sure that everybody knows them. Eventually –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r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p exercise for fun). You can let people to jot down a few ideas before star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going around, after some rounds, open the flo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cord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as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clarify only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he en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uspend judgements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ncourage the ideas,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even the most radical and far-fetched. Allow the late coming ideas, do not hur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At the end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– eliminate duplicates, clarify, thank the participan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752480" y="914400"/>
            <a:ext cx="5639040" cy="459720"/>
          </a:xfrm>
          <a:prstGeom prst="rect">
            <a:avLst/>
          </a:prstGeom>
          <a:solidFill>
            <a:srgbClr val="ffcf01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2. CONDUCT THE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3809880" y="380880"/>
            <a:ext cx="1067040" cy="457200"/>
          </a:xfrm>
          <a:prstGeom prst="downArrowCallout">
            <a:avLst>
              <a:gd name="adj1" fmla="val 58352"/>
              <a:gd name="adj2" fmla="val 58346"/>
              <a:gd name="adj3" fmla="val 16667"/>
              <a:gd name="adj4" fmla="val 6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286000" y="933480"/>
            <a:ext cx="4191120" cy="459720"/>
          </a:xfrm>
          <a:prstGeom prst="rect">
            <a:avLst/>
          </a:prstGeom>
          <a:solidFill>
            <a:srgbClr val="ffcf01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. EVALUATIO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809880" y="304920"/>
            <a:ext cx="1067040" cy="457200"/>
          </a:xfrm>
          <a:prstGeom prst="downArrowCallout">
            <a:avLst>
              <a:gd name="adj1" fmla="val 58352"/>
              <a:gd name="adj2" fmla="val 58346"/>
              <a:gd name="adj3" fmla="val 16667"/>
              <a:gd name="adj4" fmla="val 6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47920" y="2057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ut the evaluation off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/ next 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5800" y="20574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676520" y="2743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dd newly born ideas</a:t>
            </a:r>
            <a:r>
              <a:rPr b="1" lang="cs-CZ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o the l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914400" y="2743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828800" y="3429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Group similar idea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1066680" y="3429000"/>
            <a:ext cx="609840" cy="457200"/>
          </a:xfrm>
          <a:custGeom>
            <a:avLst/>
            <a:gdLst>
              <a:gd name="textAreaLeft" fmla="*/ 7596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981080" y="40543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elect the best or most interesting sugg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19"/>
          <p:cNvSpPr/>
          <p:nvPr/>
        </p:nvSpPr>
        <p:spPr>
          <a:xfrm>
            <a:off x="1219320" y="405432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286000" y="49528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reate teams which will work on them furth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21"/>
          <p:cNvSpPr/>
          <p:nvPr/>
        </p:nvSpPr>
        <p:spPr>
          <a:xfrm>
            <a:off x="1523880" y="4952880"/>
            <a:ext cx="609840" cy="457200"/>
          </a:xfrm>
          <a:custGeom>
            <a:avLst/>
            <a:gdLst>
              <a:gd name="textAreaLeft" fmla="*/ 7596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438280" y="58071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ahoma"/>
              </a:rPr>
              <a:t>Inform people about the result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1676520" y="580716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istakes to </a:t>
            </a: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be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avoid</a:t>
            </a: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eople are negativ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n advance (it will not work anyw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oo many brainstorming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n the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ad atmospher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n the begi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ad experienc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ith the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judgements occu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uring the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y criticism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ersonal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6553080" y="4952880"/>
            <a:ext cx="1371600" cy="1219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1800" y="456840"/>
            <a:ext cx="6545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dditional</a:t>
            </a: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creative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solving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AutoShape 6"/>
          <p:cNvSpPr/>
          <p:nvPr/>
        </p:nvSpPr>
        <p:spPr>
          <a:xfrm flipV="1">
            <a:off x="1752480" y="1981080"/>
            <a:ext cx="1325520" cy="1198800"/>
          </a:xfrm>
          <a:prstGeom prst="pi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352680" y="2682720"/>
            <a:ext cx="5105520" cy="459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DIVIDUAL BRAINWR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8"/>
          <p:cNvSpPr/>
          <p:nvPr/>
        </p:nvSpPr>
        <p:spPr>
          <a:xfrm flipV="1">
            <a:off x="1905120" y="3183840"/>
            <a:ext cx="1325520" cy="1198440"/>
          </a:xfrm>
          <a:prstGeom prst="pi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505320" y="3886200"/>
            <a:ext cx="5105160" cy="459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COLOURFUL C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0"/>
          <p:cNvSpPr/>
          <p:nvPr/>
        </p:nvSpPr>
        <p:spPr>
          <a:xfrm flipV="1">
            <a:off x="1905120" y="4555440"/>
            <a:ext cx="1325520" cy="1198440"/>
          </a:xfrm>
          <a:prstGeom prst="pi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505320" y="5257800"/>
            <a:ext cx="5105160" cy="459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IND M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905120" y="914400"/>
            <a:ext cx="5105160" cy="459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NDIVIDUAL BRAINWR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990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hen you need to solve some problem alone, and 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you do not have a group to work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 piece of paper (can be big and colourful to stimulate your think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Jot down all ideas linked with the iss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!! Do not judge yourself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 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further steps as in brainstor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6"/>
          <p:cNvSpPr/>
          <p:nvPr/>
        </p:nvSpPr>
        <p:spPr>
          <a:xfrm>
            <a:off x="5791320" y="1905120"/>
            <a:ext cx="3276360" cy="1066680"/>
          </a:xfrm>
          <a:prstGeom prst="flowChartMultidocument">
            <a:avLst/>
          </a:prstGeom>
          <a:solidFill>
            <a:srgbClr val="ffcf0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905120" y="914400"/>
            <a:ext cx="5105160" cy="459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ahoma"/>
              </a:rPr>
              <a:t>COLOURFUL C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76212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in a group of people, sensitive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 topic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(eg. What do we like / dislike about our managers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, company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set of papers / person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maller pieces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A4/3 or 3M), colours as needed, for example yellow and gre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people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individually note their opinions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on the cards, one idea per card, yellow – positive, green – nega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glue the cards on the flip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chart, grouping immediately similar opinions together, negative on the left, positive on the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let people see and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discuss the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brainstorming on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What can we do about it?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can fo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914400"/>
            <a:ext cx="5105160" cy="459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IND MAPS</a:t>
            </a:r>
            <a:r>
              <a:rPr b="1" lang="cs-CZ" sz="2400" spc="-1" strike="noStrike">
                <a:solidFill>
                  <a:srgbClr val="3333cc"/>
                </a:solidFill>
                <a:latin typeface="Tahoma"/>
                <a:ea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4724280" y="4556160"/>
            <a:ext cx="1676520" cy="1541880"/>
            <a:chOff x="4724280" y="4556160"/>
            <a:chExt cx="1676520" cy="1541880"/>
          </a:xfrm>
        </p:grpSpPr>
        <p:grpSp>
          <p:nvGrpSpPr>
            <p:cNvPr id="184" name="Group 9"/>
            <p:cNvGrpSpPr/>
            <p:nvPr/>
          </p:nvGrpSpPr>
          <p:grpSpPr>
            <a:xfrm>
              <a:off x="4800600" y="4556160"/>
              <a:ext cx="1523880" cy="914400"/>
              <a:chOff x="4800600" y="4556160"/>
              <a:chExt cx="1523880" cy="914400"/>
            </a:xfrm>
          </p:grpSpPr>
          <p:sp>
            <p:nvSpPr>
              <p:cNvPr id="185" name="Line 4"/>
              <p:cNvSpPr/>
              <p:nvPr/>
            </p:nvSpPr>
            <p:spPr>
              <a:xfrm>
                <a:off x="4800600" y="45561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5"/>
              <p:cNvSpPr/>
              <p:nvPr/>
            </p:nvSpPr>
            <p:spPr>
              <a:xfrm>
                <a:off x="4800600" y="47847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Line 6"/>
              <p:cNvSpPr/>
              <p:nvPr/>
            </p:nvSpPr>
            <p:spPr>
              <a:xfrm>
                <a:off x="4800600" y="50133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Line 7"/>
              <p:cNvSpPr/>
              <p:nvPr/>
            </p:nvSpPr>
            <p:spPr>
              <a:xfrm>
                <a:off x="4800600" y="52419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Line 8"/>
              <p:cNvSpPr/>
              <p:nvPr/>
            </p:nvSpPr>
            <p:spPr>
              <a:xfrm>
                <a:off x="4800600" y="54705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0" name="Text Box 11"/>
            <p:cNvSpPr/>
            <p:nvPr/>
          </p:nvSpPr>
          <p:spPr>
            <a:xfrm>
              <a:off x="4724280" y="569916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linear for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Rectangle 3"/>
          <p:cNvSpPr/>
          <p:nvPr/>
        </p:nvSpPr>
        <p:spPr>
          <a:xfrm>
            <a:off x="762120" y="17524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HAT is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lternative way of making notes and mapping any iss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ny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ell-known thinke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used some form of 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Leonardo da Vin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oes not use linear form of not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XPLOSIV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lours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ictures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s natural brain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imulate thinking, fun, jo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16"/>
          <p:cNvGrpSpPr/>
          <p:nvPr/>
        </p:nvGrpSpPr>
        <p:grpSpPr>
          <a:xfrm>
            <a:off x="6781680" y="4038480"/>
            <a:ext cx="1828800" cy="1981080"/>
            <a:chOff x="6781680" y="4038480"/>
            <a:chExt cx="1828800" cy="1981080"/>
          </a:xfrm>
        </p:grpSpPr>
        <p:sp>
          <p:nvSpPr>
            <p:cNvPr id="193" name="AutoShape 13"/>
            <p:cNvSpPr/>
            <p:nvPr/>
          </p:nvSpPr>
          <p:spPr>
            <a:xfrm>
              <a:off x="6781680" y="4038480"/>
              <a:ext cx="1828800" cy="1981080"/>
            </a:xfrm>
            <a:prstGeom prst="irregularSeal1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6858000" y="464796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explosive for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 Box 17"/>
          <p:cNvSpPr/>
          <p:nvPr/>
        </p:nvSpPr>
        <p:spPr>
          <a:xfrm>
            <a:off x="685800" y="6095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ahoma"/>
                <a:ea typeface="Tahoma"/>
              </a:rPr>
              <a:t>*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eg. Tony Buzan, The Creative Intellig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0" descr="C:\Program Files\Common Files\Microsoft Shared\Clipart\cagcat50\BD06455_.WMF"/>
          <p:cNvPicPr/>
          <p:nvPr/>
        </p:nvPicPr>
        <p:blipFill>
          <a:blip r:embed="rId1"/>
          <a:stretch/>
        </p:blipFill>
        <p:spPr>
          <a:xfrm>
            <a:off x="152280" y="2057400"/>
            <a:ext cx="1173240" cy="11635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3"/>
          <p:cNvSpPr/>
          <p:nvPr/>
        </p:nvSpPr>
        <p:spPr>
          <a:xfrm>
            <a:off x="3352680" y="2819520"/>
            <a:ext cx="1828800" cy="1981080"/>
          </a:xfrm>
          <a:prstGeom prst="irregularSeal1">
            <a:avLst/>
          </a:prstGeom>
          <a:solidFill>
            <a:srgbClr val="ffcf0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429000" y="3565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A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905120" y="914400"/>
            <a:ext cx="5105160" cy="459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ahoma"/>
              </a:rPr>
              <a:t>How to use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IND M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4952880" y="2819520"/>
            <a:ext cx="457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41008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5257800" y="411480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638680" y="411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1981080" y="5105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12"/>
          <p:cNvSpPr/>
          <p:nvPr/>
        </p:nvSpPr>
        <p:spPr>
          <a:xfrm flipH="1">
            <a:off x="3200400" y="45720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13"/>
          <p:cNvSpPr/>
          <p:nvPr/>
        </p:nvSpPr>
        <p:spPr>
          <a:xfrm flipH="1">
            <a:off x="274320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609480" y="3505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apital 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4952880" y="464832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5486400" y="51814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restaurants and good f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17"/>
          <p:cNvSpPr/>
          <p:nvPr/>
        </p:nvSpPr>
        <p:spPr>
          <a:xfrm flipH="1" flipV="1">
            <a:off x="2819160" y="2590920"/>
            <a:ext cx="5331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76212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21" descr="C:\Program Files\Common Files\Microsoft Shared\Clipart\cagcat50\EN00349_.wmf"/>
          <p:cNvPicPr/>
          <p:nvPr/>
        </p:nvPicPr>
        <p:blipFill>
          <a:blip r:embed="rId2"/>
          <a:stretch/>
        </p:blipFill>
        <p:spPr>
          <a:xfrm>
            <a:off x="6934320" y="3429000"/>
            <a:ext cx="1384200" cy="782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C:\Program Files\Common Files\Microsoft Shared\Clipart\cagcat50\BD07175_.WMF"/>
          <p:cNvPicPr/>
          <p:nvPr/>
        </p:nvPicPr>
        <p:blipFill>
          <a:blip r:embed="rId3"/>
          <a:stretch/>
        </p:blipFill>
        <p:spPr>
          <a:xfrm>
            <a:off x="838080" y="5207040"/>
            <a:ext cx="1676520" cy="11080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99"/>
                </a:solidFill>
                <a:latin typeface="Tahoma"/>
              </a:rPr>
              <a:t>Session objectiv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is brainst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y and when us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to organise and lead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ccessful brainstorming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mistakes are to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be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void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ditional creative problem solving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05120" y="914400"/>
            <a:ext cx="5105160" cy="459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hen to use MIND M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make a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aily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t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f the lesson, boo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, 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liday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hopping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o d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st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ery day, as often as possible, be creative, develop your own style with time, have f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so in groups after brainstorming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4" descr="C:\Documents and Settings\rehorek\Application Data\Microsoft\Media Catalog\Downloaded Clips\cl4\BD10397_.wmf"/>
          <p:cNvPicPr/>
          <p:nvPr/>
        </p:nvPicPr>
        <p:blipFill>
          <a:blip r:embed="rId1"/>
          <a:stretch/>
        </p:blipFill>
        <p:spPr>
          <a:xfrm>
            <a:off x="5257800" y="2971800"/>
            <a:ext cx="2819520" cy="1192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13040" y="380520"/>
            <a:ext cx="4944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69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reativity is not born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by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eative methods must b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nsciously introduce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d develope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n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sation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eople must be encourage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o use them, with no fear to make mistakes, pri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for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upport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top managemen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o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eparation and pat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Have fun and all the best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685800" y="1852560"/>
            <a:ext cx="8229600" cy="14810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333399"/>
                </a:solidFill>
                <a:latin typeface="Tahoma"/>
              </a:rPr>
              <a:t>End of Presentation</a:t>
            </a:r>
            <a:endParaRPr b="0" lang="en-US" sz="5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673520" y="3587760"/>
            <a:ext cx="401328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for attention – questions wel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99"/>
                </a:solidFill>
                <a:latin typeface="Tahoma"/>
              </a:rPr>
              <a:t>What is brainstorming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16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best way how to have a good idea is to have many ideas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ex F. Osborne, 193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ethod of think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up solutions, concepts, ideas in problem sol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brain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storm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 idea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t is easier to t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 down a wild idea than to think up a new one.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99"/>
                </a:solidFill>
                <a:latin typeface="Tahoma"/>
              </a:rPr>
              <a:t>Why </a:t>
            </a: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and When Use I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reative process i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always eas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problems of fear, criticism, no existing solutions y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 person has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imit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opl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end to jud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new ideas immediately (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change is difficult for a human be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 flipV="1">
            <a:off x="1752480" y="4114080"/>
            <a:ext cx="1325520" cy="1198440"/>
          </a:xfrm>
          <a:prstGeom prst="pi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352680" y="4816440"/>
            <a:ext cx="5105520" cy="8254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reative thinking require appropriate tools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ow does it wor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a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roup of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ree associat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o the topic g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lax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and friendly atmosp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eferred judgements 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ease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human mind, lateral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" name="Group 14"/>
          <p:cNvGrpSpPr/>
          <p:nvPr/>
        </p:nvGrpSpPr>
        <p:grpSpPr>
          <a:xfrm>
            <a:off x="2590920" y="4495680"/>
            <a:ext cx="5257800" cy="1981440"/>
            <a:chOff x="2590920" y="4495680"/>
            <a:chExt cx="5257800" cy="1981440"/>
          </a:xfrm>
        </p:grpSpPr>
        <p:sp>
          <p:nvSpPr>
            <p:cNvPr id="117" name="AutoShape 9"/>
            <p:cNvSpPr/>
            <p:nvPr/>
          </p:nvSpPr>
          <p:spPr>
            <a:xfrm>
              <a:off x="2590920" y="4495680"/>
              <a:ext cx="5257800" cy="1981440"/>
            </a:xfrm>
            <a:custGeom>
              <a:avLst/>
              <a:gdLst>
                <a:gd name="textAreaLeft" fmla="*/ 0 w 5257800"/>
                <a:gd name="textAreaRight" fmla="*/ 5258160 w 5257800"/>
                <a:gd name="textAreaTop" fmla="*/ 256680 h 1981440"/>
                <a:gd name="textAreaBottom" fmla="*/ 17247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aaf6e2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2895480" y="502920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As many ideas as possible, no matter how crazy they a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 advTm="12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6"/>
          <p:cNvSpPr/>
          <p:nvPr/>
        </p:nvSpPr>
        <p:spPr>
          <a:xfrm>
            <a:off x="838080" y="2057400"/>
            <a:ext cx="8001000" cy="3581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f01"/>
              </a:gs>
              <a:gs pos="50000">
                <a:srgbClr val="ffeda2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The key ru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laxed atmosphere - completely f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 criticism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judg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quantity matt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ll ideas legi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ll ideas put on the sheet of pa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valuation only after the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BENEFITS of brainstorm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5562720" y="2895480"/>
            <a:ext cx="1595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e4a8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QUICK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50000">
                    <a:srgbClr val="00e4a8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1143000" y="4191120"/>
            <a:ext cx="1442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e4a8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CHEAP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50000">
                    <a:srgbClr val="00e4a8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1752480" y="297180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e4a8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FU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50000">
                    <a:srgbClr val="00e4a8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5257800" y="426708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e4a8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TEAM BUILD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50000">
                    <a:srgbClr val="00e4a8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1905120" y="5486400"/>
            <a:ext cx="4876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e4a8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GREATER ACCEPTAN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50000">
                    <a:srgbClr val="00e4a8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666880" y="1905120"/>
            <a:ext cx="320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e4a8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WIDER PICTU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50000">
                    <a:srgbClr val="00e4a8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3124080" y="3048120"/>
            <a:ext cx="1905120" cy="1676160"/>
          </a:xfrm>
          <a:prstGeom prst="sun">
            <a:avLst>
              <a:gd name="adj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Why</a:t>
            </a:r>
            <a:r>
              <a:rPr b="1" lang="en-GB" sz="4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and </a:t>
            </a:r>
            <a:r>
              <a:rPr b="1" lang="en-GB" sz="4200" spc="-1" strike="noStrike">
                <a:solidFill>
                  <a:srgbClr val="333399"/>
                </a:solidFill>
                <a:latin typeface="Tahoma"/>
              </a:rPr>
              <a:t>When </a:t>
            </a: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Use I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pecific quest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ow can we promote our produc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hat can our company do in 5 years hen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hat can we do to solve the problem X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ow can we improve co-operation of A and B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hat do our customers really want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hat opportunities do we have this ye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ow can we have more fun at work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5" descr="C:\Documents and Settings\rehorek\Application Data\Microsoft\Media Catalog\Downloaded Clips\cl2e\j0115660.wmf"/>
          <p:cNvPicPr/>
          <p:nvPr/>
        </p:nvPicPr>
        <p:blipFill>
          <a:blip r:embed="rId1"/>
          <a:stretch/>
        </p:blipFill>
        <p:spPr>
          <a:xfrm flipH="1">
            <a:off x="685440" y="4343400"/>
            <a:ext cx="2133720" cy="1646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es not rank th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help you select the important 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es not suggest the best sol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ust be amended by oth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BRAINSTORMING CONSTRAI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010280" y="4648320"/>
            <a:ext cx="1371600" cy="1218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2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4:39:14Z</dcterms:created>
  <dc:creator>Noname</dc:creator>
  <dc:description/>
  <dc:language>en-US</dc:language>
  <cp:lastModifiedBy>Bright</cp:lastModifiedBy>
  <dcterms:modified xsi:type="dcterms:W3CDTF">2013-08-22T11:05:16Z</dcterms:modified>
  <cp:revision>60</cp:revision>
  <dc:subject/>
  <dc:title>Brainstorming &amp; Creative Problem Solving Methods</dc:title>
</cp:coreProperties>
</file>